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79D-35ED-45EE-9B71-C556597E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238-9FDD-41B0-BFD0-3DE6A79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BD8-2D3F-4902-AE4D-E29E918D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F01-9A3D-4966-90AD-D78BC53E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76A-E6F2-4401-8946-0445652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1C7-01C1-4556-82B2-4D929702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44A-15C7-4E0C-83A9-FC54B7E2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EC9-ED8F-473E-93A4-33D17701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783-D8CE-47B2-B5FB-B97A3ADC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44D-A84D-4855-8E2D-419CEE34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036-9FB7-4F46-A508-6A5C7E5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C03-4325-44C3-B38A-CE442A0A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532D-643A-417D-9EFC-76281FAD8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5228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opic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8288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200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190760" y="2133720"/>
            <a:ext cx="7596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00600" y="2514600"/>
            <a:ext cx="2552760" cy="87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861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s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2133720"/>
            <a:ext cx="266724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276720"/>
            <a:ext cx="327636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sier to get food for che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ts of fo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ts of sp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ss poll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3276720"/>
            <a:ext cx="43434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manufactured go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good econo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ac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kes a lot of work to mainta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rything takes longer to build due to no fac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What happens to the prices when more cotton is produced than can be s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The prices of cotton go down when they make to much then needed because they have more supply then how much demand there is for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What is sharecropping and what impact did it have on African Americ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Share cropping is when a farmer works land for the owner who provides equipment and seeds and receives a share of the crops. This helped the African Americans by easing their labor and gave them food for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3520" y="380880"/>
            <a:ext cx="7619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096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by, Joyce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Republic to 18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8:54:07Z</dcterms:created>
  <dc:creator>cfisd</dc:creator>
  <dc:description/>
  <dc:language>en-US</dc:language>
  <cp:lastModifiedBy>cfisd</cp:lastModifiedBy>
  <dcterms:modified xsi:type="dcterms:W3CDTF">2009-05-07T19:22:55Z</dcterms:modified>
  <cp:revision>3</cp:revision>
  <dc:subject/>
  <dc:title>Slide 1</dc:title>
</cp:coreProperties>
</file>